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939-64A8-4F56-8EFC-1D608AE5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BAA-F23A-4D28-9E2B-BD567336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CDAC2-8385-4619-816F-7794EBE7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A1D48-0F12-4087-A195-031D2AD6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ED6EB-DB0D-4D99-B92C-3ECC8411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B49F6-1DD8-4FFD-9D80-3752C9ED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8CB34-AC33-45D5-8A99-480B1848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A7B7A-B9A3-4B1C-B574-CD51312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F0498-153A-4775-9479-6DF2540A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48696-7900-4540-8BD1-BFB71A65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0D624-3A68-49CC-8446-FA6DDBD7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82F8B-CCED-4CD1-9601-1EAABFD5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64D-1213-4B87-B93A-74AAFE7D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53129-9E06-46CE-A782-F11274BE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C2913-A5C0-4B2C-B3FE-A59CDBB1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B0C33-CCBD-4C62-8AD1-0FDEE4C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2755A-9DDC-4212-82B3-49C689A5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4531C-AAE3-47C4-8968-5C4E6B1B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3118C-A025-424E-86F3-A863902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4E92E-AA53-4343-B2EC-B104AF82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CE3D8-CD50-41B4-8839-6E8EA972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C329A-84A6-4BA1-B81B-8745D386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DBA12-5F2A-439E-8D8D-30E63BBA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276-288D-4A21-AAF2-0B506061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9D388-AC2A-4FB3-9199-4136D51C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AFE31-919F-4FC0-A9D6-628F821C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762E0-918F-4F03-ABD4-E10AF1A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E46ED-2A8B-4744-B10F-59DD095C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006B5-6541-420C-B4F8-71015356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51394-C2D7-474A-9BA1-702ABCAC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36B70-4C4A-40B8-B674-C044E066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F6EFB-00C7-4B92-8077-A561567D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B6C-C581-4BA8-A6BE-4A0F7921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BACB9-8ACF-4476-92D0-C957F495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BF5EE-7F6A-43AE-8891-71EEF971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DA185-2D3B-4B8D-BF44-CAF84945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4B6D2-47FE-40CB-9E22-FF073EB7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8C34C-44DC-44BA-97C9-6266659A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7FAF-5895-45C4-BE94-7F25BB1F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D99C-B536-4887-AEB4-56454EF3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4AC1-7754-4865-8747-0AE3DBA5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2728-8D90-4A4F-AD8B-43BC9BD5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847E-F663-46C1-8F87-D5F2E256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DE2-1F44-4B72-8A68-7361C2D1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CCD4-CDBE-4B90-940A-9E0E281F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DBCC4-6340-4DCD-9588-1F80A3FE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C81B-56F3-4D0B-A616-BF6C11CA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FDF1-89E9-4169-ACBE-DC994C8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3699-F1CD-4F8F-9509-28A86E3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3D16-0FAE-43C2-A8AB-56F1FC17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2712-EEB2-40C9-A24C-4950FD4F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25B3-62F0-4675-8E78-67EB66B2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940D-AFC5-48B3-97D5-CF72934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7A1E3-6C3E-47A8-BB9E-E1D4F660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5AC-7334-4910-BAE2-D99AB163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20B2-5AEF-4409-8D91-6DF0E4CD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49DC-B07E-4740-99C5-1E21BC62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99F7-144E-49C5-B7AC-BA5C440D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0243-63E6-446A-B15B-4899E74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6E96-0462-46CE-8ED7-E7C9C77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C898-1E1F-4802-AF47-DD610790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6628-2727-463B-987C-D3183AC0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E9E6-DEBF-4C46-8D0E-EAA6F70A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EF2A1-EC3E-4AEA-995B-B3CA9C94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4130D-62C0-4004-847E-2E2B887C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26D-AECE-4CC0-8886-433DC31B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49B0-0946-410F-A318-3C2B963C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43969-1A0E-48DD-B5B4-EDF9DA11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7ECE-09DC-4C2A-9586-F2BAA508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F6BB7-680D-4867-92A4-B900954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94329-CE51-4B67-B1D1-632CD05C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F969-5541-4AB8-A67E-7EB80DD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4B161-2809-428D-85E1-AB95E270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4A40-0010-4724-9DB0-52171BE0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33596-132F-45FD-A4DC-E75B896A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B61AD-F17F-466F-BF67-E33B4E99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304-6AAA-4A3A-B1CF-46B68B2A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A4F8-6264-45D9-BE72-C9E7E268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0CE2C-50F6-4AA3-8B93-AB1A19F8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3612-DCEA-4EDA-804D-A3486D6A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6EA3-2AE5-48B4-9316-09F73D71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4E389-E7F0-4D87-8E4A-FF856472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D7543-866F-42F2-92B2-D52E997A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AA5B0-FC7C-43E3-AC27-D39972A1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10FFF-5252-43B0-80FE-0ACAA0C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DE28B-ACDD-4E5B-ABE7-6ACC3D6C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ABEEA-7EDF-407E-B42D-47BB8176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A45-A826-464F-A9C1-61ED3FB7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2D9F-5BA3-4FDC-8E19-A0BB1579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6AAC0-E351-4ECE-80AB-FEFCFCEF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A230-A875-48EE-90A7-0EDD759F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E6EBC-8BA0-4531-9B82-7AE60711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E626-A670-4BBE-A5F6-710FB703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B5DDE-34F6-4B0D-9FA8-84BA28EC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92E4F-B013-4D1A-9F83-445B7E0D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560FD-67E2-4249-9D4A-39552B74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212F7-C1C3-45A4-97A1-198911D9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08C7D-711C-40D9-B495-3A45B3A0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AFF-F5F7-41B3-97C5-BA0EBEA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3078B-3C55-4B3C-900A-4D3ED395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6AABF-6A43-457A-BB47-7F868693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800D7-7E81-452A-9195-03EB8C32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72540-4F1C-4830-8FD3-B30EE6EA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854E1-4117-4BE6-9164-249162E2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734BB-0322-4507-A9A5-FA8E77D3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0373C-66B3-45A4-A481-501B6AA5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1CD2F-8535-4EBA-A0AA-60A73003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88D19-7B58-483F-AB1F-C8F6E7AA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456CA-6896-4718-9DA1-CD50C478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872-C0B2-4C9B-9C06-83466CB4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33352-8459-4B70-ADAA-14293178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F3D8E-3119-4343-89A3-9D23C9B1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49C5E-CA48-41F0-A30F-C7B87F34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FE490-A52F-4069-9AD3-48E1F32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FCED6-B1CB-483F-A575-30F39876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3D105-5FD3-49D3-9661-D3D1C42B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B95F8-5BCA-4030-B703-B59CCA4C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AB9D7-E5A4-4044-BC75-438EEA57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258D1-8A45-427D-9F2F-4B9110E4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E1FA5-0146-4783-8E62-9743265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5F64-BC44-42F4-9011-DC2986179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7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2373-4489-4A3A-93A9-94264B50ED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25F3-7D99-4581-A611-E3990945B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C12C-ED6C-4EFD-8836-28022A065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19ED-1FAF-45F6-B3E2-70A48CB76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E344-2E7A-47FD-8428-C0789AEC783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5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DBFF-5987-46B9-98B6-341DFEB6A7A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3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0473-14B7-4BE3-8917-94A0772C06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7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9F20-2746-49BD-96B1-263DD17318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2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7373-4B84-4585-87CC-B7FCF0D595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Jon_Bon_Jovi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nbonjov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Middlesex_County_New_Jersey_Incorporated_and_Unincorporated_areas_Perth_Amboy_Highlighted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n Jov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s Cle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5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380880" y="1752480"/>
            <a:ext cx="4191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on married Dorothea Hurley, who is a karate instructor.  They have four children: Stephanie, Jesse, Jacob and Romeo J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"Bon Jovi, Jon." </a:t>
            </a: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</a:rPr>
              <a:t>Grolier Multimedia Encyclopedia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 2008. Grolier Online. 16 Mar. 2008 &lt;http://gme.grolier.com/cgi-bin/article?assetid=0038095-0&gt;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Bon Jovi.”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Bon Jovi Official Website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 March 15, 2008.  http://www.bonjovi.com/bonjovi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Bruce Springsteen.”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Wikipedia: The Free Encyclopedia.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 March 15, 2008.  http://en.wikipedia.org/wiki/Bruce_Springste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Jon Bon Jovi Biography.” 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bio.biography.com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 2004.  A&amp;E Television Networks.  March 15, 2008.  http://www.biography.com/search/article.do?id954255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Jon Bon Jovi Google Image Search.”  Google.  March 15, 2008.  http://images.google.com/images?gbv=2&amp;hl=en&amp;q=jon+bon+jovi+&amp;btnG=Search+Imag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Jon Bon Jovi.”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The Internet Movie Database.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March 15, 2008.  http://www.imdb.com/name/nm0000954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Jon Bon Jovi.”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Wikipedia: The Free Encyclopedia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 March 15, 2008.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Bookman Old Style"/>
                <a:hlinkClick r:id="rId2"/>
              </a:rPr>
              <a:t>http://en.wikipedia.org/wiki/Jon_Bon_Jo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n Bon J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" descr="Jon Bon Jovi in the Netherlands May 26 2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7924680" cy="54100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Location of Perth Amboy in Middlesex County(click image to enlarge; also see: state map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685800"/>
            <a:ext cx="5410440" cy="41990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914400" y="487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orn in Perth Amboy, New Jersey, on March 2, 1962, John Bongiovi was raised in Sayreville, New Jers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s a teenager, John idolized Bruce Springsteen. While playing in a garage band, he met pianist David Bryan.  The two of them formed the band Atlantic City Express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095560" cy="27334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."/>
          <p:cNvPicPr/>
          <p:nvPr/>
        </p:nvPicPr>
        <p:blipFill>
          <a:blip r:embed="rId2"/>
          <a:stretch/>
        </p:blipFill>
        <p:spPr>
          <a:xfrm>
            <a:off x="4800600" y="3124080"/>
            <a:ext cx="3276720" cy="26528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419720" y="457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ruce Springst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1320" y="57913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David B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9144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In 1980, “Runaway” made the local airwaves.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2073240" cy="285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3"/>
          <a:stretch/>
        </p:blipFill>
        <p:spPr>
          <a:xfrm>
            <a:off x="5181480" y="3276720"/>
            <a:ext cx="3200400" cy="31050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4"/>
          <a:stretch/>
        </p:blipFill>
        <p:spPr>
          <a:xfrm>
            <a:off x="762120" y="2590920"/>
            <a:ext cx="3333600" cy="4000320"/>
          </a:xfrm>
          <a:prstGeom prst="rect">
            <a:avLst/>
          </a:prstGeom>
          <a:ln w="0">
            <a:noFill/>
          </a:ln>
        </p:spPr>
      </p:pic>
    </p:spTree>
  </p:cSld>
  <p:transition advTm="1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n formed a band with David, Tico Torres, Alec Such and Richie Sambo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-4284720" y="310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4038480" y="3276720"/>
            <a:ext cx="4457880" cy="30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rek Schulman, a record executive, signed them to PolyGram in 1983.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ulman was the one to suggest changing the band’s name to Bon Jovi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6629400" cy="66294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1219320" y="167652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 self-titled debut was out in January of 1984.  The record went gold, and the band toured with the Scorpions, Kiss and Judas Priest.  The third album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Slippery When Wet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went gold and platinum six weeks after its release.  Fourteen million copies were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4532400" cy="54482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410080" y="609480"/>
            <a:ext cx="3276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 group continues to record and release albums.  Jon also started an acting career in the 1990s. He has starred in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Moonlight and Valentino (1995), Pay it Forward (2000) and U-571 (2000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20:44:54Z</dcterms:created>
  <dc:creator>Marty Laumeyer</dc:creator>
  <dc:description/>
  <dc:language>en-US</dc:language>
  <cp:lastModifiedBy>Classroom/Lab</cp:lastModifiedBy>
  <dcterms:modified xsi:type="dcterms:W3CDTF">2008-05-02T15:53:22Z</dcterms:modified>
  <cp:revision>10</cp:revision>
  <dc:subject/>
  <dc:title>Slide 1</dc:title>
</cp:coreProperties>
</file>